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ABD6-999D-49C9-BFCC-DD6BFEB6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F63-08EA-41B1-BBA7-3266E33D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F56-5A83-4B2F-8237-71FC8CB2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A5C-84AB-43CB-A592-352BA95C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4C3-7DA2-4C7C-86D6-40F01517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132-9441-449C-95FF-EF86FBA8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BA9-A687-4061-B0B0-6256DEDA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6B0-21D3-4DA3-B07F-D5EC99F4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BDE-8C55-4671-A92B-E377173F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6F15-60DD-4D6A-9A0C-EB53DA87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415-3710-41C3-9F53-0B375B39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7F9-8B49-4A98-92FD-3A5C2D45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3451-FC77-44F4-9BA6-1F6AB6AE455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C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94A-B19C-425A-81FA-F2CE346B85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byte(unsigned char byte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char(ASCII[byte_data/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char(ASCII[byte_data%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word(unsigned int word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word_data/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word_data%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4CF-B0C5-49B0-9A71-D081690565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void i2s(int i,char *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sign;unsigned char len;char *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sign='+';len=0;p=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f(i&lt;0){sign='-';i=-i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do{*s=(i%10)+'0';s++;len++;i/=10;}while(i!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f(sign=='-'){*s='-';s++;len++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for(i=0;i&lt;len/2;i++){p[len]=p[i];p[i]=p[len-1-i];p[len-1-i]=p[len]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p[len]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void clcd_put_integer(int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2s(i,s);clcd_put_string(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EFC-8A9C-47CC-BA56-33FFBA92C1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-ex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RS P2_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RW P2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E  P2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DB 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include "clcd.c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void main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nt 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unsigned char 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t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msg[17]="Hello, 8051!  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lcd_initializ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lcd_set_cursor(1,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lcd_put_string("Chin-Shiuh Shieh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FB8-0A1C-4EAB-90D9-D2BCA862FF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-ex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for(j=0;j&lt;16;j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set_cursor(0,0);clcd_put_string(ms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for(i=-32768;i&lt;32767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for(tmp=msg[0],i=1;i&lt;16;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msg[i-1]=msg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msg[15]=t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cls();clcd_set_cursor(0,0);clcd_put_string(ms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set_cursor(1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12);clcd_put_string("h *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34);clcd_put_string("h =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integer(12*3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1==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9B4-96CD-48F5-84EB-BC1CFB158B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lcd.c is a library of Character Liquid Crystal Display (CLCD) functions for Small Device C Compiler (SDC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E45-E99A-4F7D-99CC-12A6139C3C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 Functions for SDC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57560" y="1486080"/>
            <a:ext cx="28288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B3F-F358-41FF-BFB4-5DE40C4B4B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haracter LCD (HD44780U-compatible)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W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sbit __at 0xE7 ACC_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code char ASCII[]="0123456789ABCDEF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717-816C-40E1-89EC-DD77FF3C85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initializ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rite_instruction(unsigned char instructi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ait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cls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set_cursor(unsigned int row,unsigned int colum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char(char 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string(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byte(unsigned char byte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word(unsigned int word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integer(int 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i2s(int i,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A1A-0FEE-47B6-8EF3-48900DFBA6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initializ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3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8-bit interface, 2 lines, 5x7 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display on, cursor on, cursor b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move cursor right when read/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lear display, curso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E57-A374-469A-82FC-E037CED93E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rite_instruction(unsigned char instru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=0;CLCD_RW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=instruction;CLCD_E=1;CLCD_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ait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=0xF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=0;CLCD_RW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E=1;ACC=CLCD_DB;CLCD_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ACC_7==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3A0-3831-4B92-91AA-FC2FC79908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cls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set_cursor(unsigned int row,unsigned int colum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instruction=0x8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row==1)instruction+=0x4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nstruction+=colum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instructi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59D-52E1-41CC-9F50-07F89BA650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char(char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=1;CLCD_RW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=c;CLCD_E=1;CLCD_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string(char *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*s!=0){clcd_put_char(*s)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36E-E225-4050-B0C1-BAC5B3429D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謝欽旭</cp:lastModifiedBy>
  <dcterms:modified xsi:type="dcterms:W3CDTF">2011-04-06T17:31:54Z</dcterms:modified>
  <cp:revision>11</cp:revision>
  <dc:subject/>
  <dc:title>UART Functions for SDCC</dc:title>
</cp:coreProperties>
</file>