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8FF-A548-4C30-8748-96922941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661-39B9-44F0-827A-F34D67F3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2CE-DAB8-4E8F-B67E-6C0EB878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CDE-7EFE-4F9C-AAAC-2D4EF5AD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A83-4F6B-4FCE-9EA3-8A46EB68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593-488F-4071-BD7D-C22D46F7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4EE-6E6B-4331-8139-F181DF45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5BE-8F3C-4E9D-ABF0-3049B227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F1C-CB9A-43FD-820F-E2BEF0D3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A62-90B6-4664-B793-4AA5269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538-3D79-4E26-8393-737BBDAD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BE0-3AB3-49E0-8DD7-692A18DA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AD32-A0CA-417E-B22B-FCD9FD99B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A4DF-7E4F-4F8B-BD3F-D88407DF0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C9F3-4084-4B03-851D-2AE97104D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.c is a library of 4x4 keypad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dm.c is an example of controlling DC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padsm.c is an example of controlling stepper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4FA7-1972-438D-A51E-4DA3D95B5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pad Functions for SDCC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Keypad"/>
          <p:cNvPicPr/>
          <p:nvPr/>
        </p:nvPicPr>
        <p:blipFill>
          <a:blip r:embed="rId1"/>
          <a:stretch/>
        </p:blipFill>
        <p:spPr>
          <a:xfrm>
            <a:off x="2724120" y="1890720"/>
            <a:ext cx="3695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21EE-C7B4-4656-87B6-64A026C58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Keypad functions (with 74C9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KEYPAD_NULL 0x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check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byt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 keypad_get_word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 keypad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34F3-370B-4B9C-BC6D-81501EFB5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key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007E-E737-4A77-8F65-2BB22B138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check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PAD_DO|=0x1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KEYPAD_DA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key=KEYPAD_DO;key&amp;=0x0F;while(KEYPAD_DA==1);return key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KEYPAD_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pad_get_byt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keypad_get_key_echo()*16+keypad_get_key_echo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keypad_get_word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keypad_get_byte()*256+keypad_get_byt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B78D-37B2-4046-AAE6-E0FC7828D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keypad_get_integer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valu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key=keypad_get_key())&lt;0x0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=value*10+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csshieh</cp:lastModifiedBy>
  <dcterms:modified xsi:type="dcterms:W3CDTF">2021-11-05T03:41:15Z</dcterms:modified>
  <cp:revision>28</cp:revision>
  <dc:subject/>
  <dc:title>UART Functions for SDCC</dc:title>
</cp:coreProperties>
</file>