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60A-AC12-4E5F-93FB-89B51F88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C56-830E-42B8-89E5-2A349B5F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E08-3224-4417-A9B5-1F40037D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2E5-E31F-442B-AE3B-2B2674F1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C51-45D9-4556-AB78-77587F41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94D-1862-4E7A-86C7-16E17C6D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BD1-E3E5-4814-84EA-22340FDC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4A2-6D20-4B3E-AB78-CA219ECA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24E-AE15-4439-9DFF-870BD622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17E-4BF9-4B6D-BFB1-858BCC5A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ABA-D6C7-46A7-A125-808071F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145-BDFF-4D5C-A091-A68FA1F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1B42-EE3F-462D-9747-281BA9AE3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5BD2-552C-4508-A39D-479D34FCC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AE1A-7D51-4E5E-90BF-803AA7489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byte(unsigned char byte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ASCII[byte_data/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ASCII[byte_data%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word(unsigned int wor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byte(word_data/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byte(word_data%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5417-FCA4-4FD3-8E91-826DA643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-ex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"uart.c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 voi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initi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Name: ");uart_get_string(s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Hello, ");uart_put_string(s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i: ");i=uart_get_integer(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j: ");j=uart_get_integer(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i);uart_put_string(" *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j);uart_put_string(" =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i*j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1==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F975-2330-4709-B3F6-477A5F43D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art.c is a library of Universal Asynchronous Receiver/Transmitter (UART) functions for Small Device C Compiler (SDCC), including character, string, integer I/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 Term Pro V2.3, by T. Teranishi, is a free software terminal emulator supporting serial port (RS232) and TCP/IP (telnet) conn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0CC4-2171-465B-941A-FAD91956B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RS232"/>
          <p:cNvPicPr/>
          <p:nvPr/>
        </p:nvPicPr>
        <p:blipFill>
          <a:blip r:embed="rId1"/>
          <a:stretch/>
        </p:blipFill>
        <p:spPr>
          <a:xfrm>
            <a:off x="2171880" y="184788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A4E2-8B7C-4D0B-AF57-81C61B174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 functions for SDCC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initialize() should be called before using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nitializ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char(char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ge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2s(int i,char *s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Integer to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uart_s2i(char *s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String to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integer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uart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byte(unsigned char byte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word(unsigned int  word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__code char uart_ASCII[]="0123456789ABCDE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89B2-6E97-4337-A481-8D90568A6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nitializ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CON&amp;=0x7F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ear SMOD of PCON, No Double Baud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OD&amp;=0x2F;TMOD|=0x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Timer1 to 8-bit auto reload mode for Baud Rat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1=0xFD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Baud Rate to 9600 bps for 11.0592M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M0=0;SM1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UART to Mode 1 (8-bit UA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N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REN of SCON to Enable UART 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1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TR1 of TCON to Start Time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=0;RI=0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ear TI/RI to Get Ready to Send/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83D5-500B-4899-AA65-C674D6C2C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char(char c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ut Character to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BUF=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I==0);T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(void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Character from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RI==0);R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BU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Character from UART with Echo, Require uart_put_ch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RI==0);R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SBU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BU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9FE6-0A64-457B-96A7-E5FEAF7D8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ut String to UART, Require uart_put_ch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*s!=0){uart_put_char(*s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ge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String from UART, Require uart_get_char_echo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(*s)=uart_get_char_echo())!=13)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s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A0B3-F1A6-43F2-AAE5-2009C647A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2s(int i,char *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Integer to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ign;unsigned char len;char *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='+';len=0;p=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i&lt;0){sign='-';i=-i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{*s=(i%10)+'0';s++;len++;i/=10;}while(i!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sign=='-'){*s='-';s++;len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=0;i&lt;len/2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p[len]=p[i];p[i]=p[len-1-i];p[len-1-i]=p[len]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len]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integer(int 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i2s(i,s);uart_put_string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95F2-4AEC-4543-88AF-796FCE55F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uart_s2i(char *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String to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=0;char sign='+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*s=='-'){sign='-'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*s!=0){i=i*10+(*s-'0'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sign=='-')i=-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uart_get_integ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get_string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uart_s2i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csshieh</cp:lastModifiedBy>
  <dcterms:modified xsi:type="dcterms:W3CDTF">2021-11-03T16:25:23Z</dcterms:modified>
  <cp:revision>11</cp:revision>
  <dc:subject/>
  <dc:title>UART Functions for SDCC</dc:title>
</cp:coreProperties>
</file>