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7EB-DE96-48B3-9C14-C14AF41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867-69A4-4D21-BE97-0CE9F4FA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BDD-5A2F-43D3-AAE6-A2BFCF2C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CC6-E631-46B1-A4F7-4F043055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764-8E26-461C-A6E6-3046FDC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999-EECA-443B-B5F9-66E5095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D5E-2234-4AB8-8E64-1344700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F6B-99F2-43E6-BEEA-8E5C4D3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2B1-1409-4DCC-BB4D-A11951DE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56A-C6B0-4597-80C3-96D1DC2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90D-38F3-4D5A-8F94-15E12B52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072-98A2-4774-9497-5BE0D12C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9114-DE35-4AA9-9089-8CA2C514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25560" y="757080"/>
            <a:ext cx="72928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x xxxx xxxx 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0000 0000 0000 = 6000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 1111 1111 1111 = 7FF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21:15Z</dcterms:created>
  <dc:creator>謝欽旭</dc:creator>
  <dc:description/>
  <dc:language>en-US</dc:language>
  <cp:lastModifiedBy>csshieh</cp:lastModifiedBy>
  <dcterms:modified xsi:type="dcterms:W3CDTF">2018-12-14T12:51:08Z</dcterms:modified>
  <cp:revision>4</cp:revision>
  <dc:subject/>
  <dc:title>投影片 1</dc:title>
</cp:coreProperties>
</file>