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FC4-EBC9-40CA-B7FD-34D5C4FF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E56-4BFC-4F80-B02D-C2945DF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633-937F-4DB6-B731-2F5B2992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1EE-1CF9-4820-895D-8CF399E5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79B-31D9-4FDA-90C7-DC192683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66C-6153-4107-B8A9-3FB1A9F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B49-DCAC-4DF9-96FD-2A0B9E95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95B-B437-4359-B818-A2566DA5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81B-30EA-44FB-98B1-BCFDED5B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E2A-61CA-4829-B4DF-079DBD5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413-5688-4521-B84C-00B6A380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846-B5D1-4038-9AE7-7178A7AB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7AEC-DAD7-47DD-B2AD-C0B0477BD4C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62F-309B-469E-9C14-7B48272AD5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392-D87E-4BB3-85C1-841C20976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i2s(int i,char *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for(i=0;i&lt;len/2;i++){p[len]=p[i];p[i]=p[len-1-i];p[len-1-i]=p[len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clcd_put_integer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2s(i,s);clcd_put_string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2AD-E153-4662-B99F-D0DDE4973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S P2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W P2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E  P2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DB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"clcd.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nt 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unsigned char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t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msg[17]="Hello, 8051!  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initial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put_string("Chin-Shiuh Shie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CFA-E283-4280-BAEF-A30D109AD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j=0;j&lt;16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i=-32768;i&lt;32767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tmp=msg[0],i=1;i&lt;16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i-1]=msg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15]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cls();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12);clcd_put_string("h *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34);clcd_put_string("h =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integer(12*3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B9B-14D5-4AAE-B0CF-BB678BDFAA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lcd.c is a library of Character Liquid Crystal Display (CLCD)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579-BC37-465E-9C08-7CE82A30D3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57560" y="1486080"/>
            <a:ext cx="28288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845-93DC-49C8-8259-BB64E4597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haracter LCD (HD44780U-compatible)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W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sbit __at 0xE7 ACC_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code char 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AA1-2548-401F-B704-017CB22D52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i2s(int i,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1E1-17C5-4D9D-98C4-0487CEFA1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3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8-bit interface, 2 lines, 5x7 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display on, cursor on, cursor b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move cursor right when read/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ear display, curs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B97-15E5-4D5D-860B-F01B9E480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instruction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0xF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=1;ACC=CLCD_DB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ACC_7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820-E98E-4B33-85F4-E4FF257452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nstruction=0x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row==1)instruction+=0x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nstruction+=colum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16E-6DD8-42AD-BB4A-90B67234AA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1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c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*s!=0){clcd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202-4058-425E-AF3D-8446530A12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6T17:31:54Z</dcterms:modified>
  <cp:revision>11</cp:revision>
  <dc:subject/>
  <dc:title>UART Functions for SDCC</dc:title>
</cp:coreProperties>
</file>