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01E-4AC9-4150-85A9-4C0D74AB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D3A-DCD7-45D1-BAB9-B6DD368D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6BB-302B-464E-9DA7-42FB444F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C2F-C84B-486C-8E0A-B2797648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CDD-8036-41C2-8856-A761D220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3ABB-049C-4BE6-A847-B099CF23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41D-BB79-46B2-A6F0-4CB91798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05E-3E13-4F6E-8B8F-B30185C3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588-7A99-422F-AF63-4DE32CA4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F62-E938-4C8A-9E67-79D21C0A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7F1-4674-4B89-9F65-2C210022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782-8128-45EB-A424-D48552A4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1C1A-90F5-481D-909B-9440E001D0B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6EB-11B9-4743-91FF-D9BF33B0CC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dm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dm_speed==0)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Turn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0=1;P2_1=1;P2_2=0;P2_3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dm_direction==0)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Turn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1=1;P2_2=0;P2_0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3=1;for(i=0;i&lt;dm_speed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3=0;for(i=dm_speed;i&lt;100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Turn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0=1;P2_3=0;P2_1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2=1;for(i=0;i&lt;dm_speed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2=0;for(i=dm_speed;i&lt;100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475-6818-45B3-9AD8-A6632AC9A6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sm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29000" y="1781280"/>
            <a:ext cx="4086000" cy="32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469-2660-4E43-BA27-933EAC8B57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sm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DO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DA P1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include "keypad.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main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sm_control=0x0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sm_step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bit sm_direction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825-C5AE-4404-B3E9-3EDA4888C8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sm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while(1==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sm_step=keypad_get_key()*100+keypad_get_key()*10+keypad_get_key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// Step Control: 000~99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if(keypad_get_key()==10)sm_direction=0;else sm_direction=1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// Key 'A' for Turn to Right, others for Turn to Lef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while(sm_step&gt;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if(keypad_check_key()==12)break;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// Key 'C' for ab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if(sm_direction==0){sm_control/=2;if(sm_control==0)sm_control=8;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if(sm_direction==1){sm_control*=2;if(sm_control&gt;8)sm_control=1;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P0=sm_control;for(i=0;i&lt;5000;i++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sm_step--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547-F943-49F8-B4CA-BA66745439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keypad.c is a library of 4x4 keypad functions for Small Device C Compiler (SDC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keypaddm.c is an example of controlling DC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keypadsm.c is an example of controlling stepper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975-D02D-4DD7-9A7B-F174681EDB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pad Functions for SDCC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24120" y="1890720"/>
            <a:ext cx="3695760" cy="30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FE8-DE52-41A0-9BA2-9A638AB5C1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Keypad functions (with 74C9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 KEYPAD_DO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 KEYPAD_DA P1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NULL 0x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key_echo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check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byt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 keypad_get_word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 keypad_get_integ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9DB-ECC7-48C9-A2C8-A06EB183CE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key_echo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31F-D8AE-4411-88BE-B7D478EF66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check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PAD_DO|=0x1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KEYPAD_DA==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key=KEYPAD_DO;key&amp;=0x0F;while(KEYPAD_DA==1);return key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return KEYPAD_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byt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return(keypad_get_key_echo()*16+keypad_get_key_echo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keypad_get_word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return(keypad_get_byte()*256+keypad_get_byt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789-11B8-407F-A8F0-7C73040CD9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keypad_get_integer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valu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(key=keypad_get_key())&lt;0x0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alue=value*10+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return 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FCF-2178-4C65-AE28-828BED0B22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dm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33400" y="1909800"/>
            <a:ext cx="5677200" cy="303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113-0092-4175-A58E-0838B165EB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dm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DO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DA P1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include "keypad.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main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bit dm_direction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dm_speed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1==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=keypad_check_ke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key&lt;=9)dm_speed=key*10;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‘0’~’9’ for Speed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key==10)dm_direction=0; 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‘A’ for Turn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key==11)dm_direction=1;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‘B’ for Turn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B20-3461-46CC-B135-0EFA038FFA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謝欽旭</cp:lastModifiedBy>
  <dcterms:modified xsi:type="dcterms:W3CDTF">2011-04-09T17:02:39Z</dcterms:modified>
  <cp:revision>27</cp:revision>
  <dc:subject/>
  <dc:title>UART Functions for SDCC</dc:title>
</cp:coreProperties>
</file>