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9A-20C1-453C-9E97-1584447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2BE-C37F-46D3-94CC-BC009F01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2E5-6E72-4664-AFDA-0CF7688F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62B-AEE2-42D4-828F-9257E2F2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B58-8B56-4656-8A96-126F7E7A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5C7-2A7F-43B0-8D9F-CF2063D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723-D138-40B7-9893-4B04A2FB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72A-16BB-4741-AE54-217F5CB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4E3-9BBD-4D70-97B7-FEA04CA5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177-5E02-4CC8-8519-DFCA493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299-2736-483B-8E89-84282DD3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DCB-E4E7-44A0-9C9C-E778292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777-2C49-49D8-9BEB-DD2EC18B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4AE-F0D8-4378-B128-5068DB60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0932-437C-478A-B028-1EDA6C1A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76B-BC2D-4E40-9BDD-B0065AFC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Keypad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4D93-6640-42C1-9944-582E7AA2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CA0-57E0-45BE-9590-701FE8AC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BA0-E28B-4B2F-AF58-10E5DA4D3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3CB-F6C6-40FA-9D9C-BD770077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5T03:41:15Z</dcterms:modified>
  <cp:revision>28</cp:revision>
  <dc:subject/>
  <dc:title>UART Functions for SDCC</dc:title>
</cp:coreProperties>
</file>