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A1E-F4E7-4180-BAF9-FB6F112F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DE4-D85B-4F5B-A3CD-D1DC0EE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5CC-920D-4BAA-BFB3-3B57B769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0C-D401-4ABA-A09A-3ADE4D0E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72D-36D5-4CB4-99F9-91AD09A8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00A-8DEE-42F8-AF43-22DA459B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79D-C6F4-4BAF-BFE8-D7F6CE6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5BA-475D-4139-BF3C-5F845DC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40A-92E4-41C7-93C5-C5D50494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476-5B78-499F-9BFB-65074C6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A9D-8CCC-4486-901D-4AF1346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67C-D712-40DB-AD96-E10DDA6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4EEF-AA00-42CE-8DF7-3AC4671C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27F-CD7A-4252-9F0D-03BE1C72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E8AE-2ECC-4E38-A180-6F4FFCE43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3CA4-DF54-4935-B904-DBA98919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uart.c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 voi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Name: ");uart_ge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Hello, ");uart_pu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i: ");i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j: ");j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);uart_put_string(" *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j);uart_put_string(" =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*j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3AFC-D26E-4B52-BA3B-771F09CF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rt.c is a library of Universal Asynchronous Receiver/Transmitter (UART) functions for Small Device C Compiler (SDCC), including character, string, integer I/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 Term Pro V2.3, by T. Teranishi, is a free software terminal emulator supporting serial port (RS232) and TCP/IP (telnet) conn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F865-588D-4636-9402-2A8B1CC5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RS232"/>
          <p:cNvPicPr/>
          <p:nvPr/>
        </p:nvPicPr>
        <p:blipFill>
          <a:blip r:embed="rId1"/>
          <a:stretch/>
        </p:blipFill>
        <p:spPr>
          <a:xfrm>
            <a:off x="2171880" y="184788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31E-AF7E-4DFF-A2EE-D35AF3AB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s for SDCC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initialize() should be called before us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s2i(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_code char uart_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D51-EA3A-46FA-B0EB-B0DA357B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CON&amp;=0x7F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SMOD of PCON, No Double Baud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OD&amp;=0x2F;TMOD|=0x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imer1 to 8-bit auto reload mode for Baud Ra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1=0xFD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Baud Rate to 9600 bps for 11.0592M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0=0;SM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UART to Mode 1 (8-bit U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N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REN of SCON to Enable UART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R1 of TCON to Start Tim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=0;RI=0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TI/RI to Get Ready to Send/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E8C0-274D-422C-BD00-CBC85F35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Character to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BUF=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I==0);T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 with Echo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SBU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117B-962F-4DF2-A854-3EA73697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String to UART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uart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String from UART, Require uart_get_char_ech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(*s)=uart_get_char_echo())!=13)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3EC-BF73-4011-B8D0-1461C7F63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=0;i&lt;len/2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p[len]=p[i];p[i]=p[len-1-i];p[len-1-i]=p[len]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i2s(i,s);uart_pu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78A8-84CE-49D7-BC48-26CC8D9A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s2i(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=0;char sign='+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*s=='-'){sign='-'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i=i*10+(*s-'0'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i=-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get_integ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ge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uart_s2i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3T16:25:23Z</dcterms:modified>
  <cp:revision>11</cp:revision>
  <dc:subject/>
  <dc:title>UART Functions for SDCC</dc:title>
</cp:coreProperties>
</file>