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2AF-D895-414F-B121-A22227B9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E9E-D65A-47E6-BA92-D649E8E3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C92-348F-47EE-8E46-60EA8D15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6E6-2706-44A0-9AD9-E41B43AB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D1E-446D-4283-AA0C-25EAAAF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660-9D0E-4B22-9362-8EEC070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837-A9AC-4469-A732-0BA10761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91F-19B9-4173-8E81-E933118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CC7-9EEE-4D61-869A-F2F1D1FA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430-A8AD-4416-BE19-A16D387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BD5-3290-40C9-AF7A-916D163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7CF-E806-4B15-804F-AFC28C1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FC4-B23D-43C6-9DB0-B9FC234B6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25560" y="757080"/>
            <a:ext cx="72928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x xxxx xxxx 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0000 0000 0000 = 6000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 1111 1111 1111 = 7FF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21:15Z</dcterms:created>
  <dc:creator>謝欽旭</dc:creator>
  <dc:description/>
  <dc:language>en-US</dc:language>
  <cp:lastModifiedBy>csshieh</cp:lastModifiedBy>
  <dcterms:modified xsi:type="dcterms:W3CDTF">2018-12-14T12:51:08Z</dcterms:modified>
  <cp:revision>4</cp:revision>
  <dc:subject/>
  <dc:title>投影片 1</dc:title>
</cp:coreProperties>
</file>